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332942"/>
        <c:axId val="29999"/>
      </c:barChart>
      <c:catAx>
        <c:axId val="23332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99"/>
        <c:crosses val="autoZero"/>
        <c:auto val="1"/>
        <c:lblAlgn val="ctr"/>
        <c:lblOffset val="100"/>
        <c:noMultiLvlLbl val="0"/>
      </c:catAx>
      <c:valAx>
        <c:axId val="299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32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60A6-78DE-45CC-BFB9-75D995F0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D4A-CEB8-46A3-9566-9DDE62CF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863F-B3B0-4253-B090-79A7653F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173-C53C-41DB-BC9F-2B93D272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B29-731D-4F48-8CCA-8E732DE7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2D18-E1C7-4FBA-95F7-55515B47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DC1-D023-4733-AC9F-9A158AE6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683-F18F-4FEF-BF88-0662E3F7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D286-82AD-4B9B-9E7B-B4A255D1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080-7C0E-44E7-A24E-A7BCCFF7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4B7-AD5A-473F-8E27-48C07551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681-5624-4A9E-9C9B-179B9EBD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88F0C-A569-4BA3-B38C-CB68212613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