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0272"/>
        <c:axId val="417721"/>
      </c:barChart>
      <c:catAx>
        <c:axId val="44610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721"/>
        <c:crosses val="autoZero"/>
        <c:auto val="1"/>
        <c:lblAlgn val="ctr"/>
        <c:lblOffset val="100"/>
        <c:noMultiLvlLbl val="0"/>
      </c:catAx>
      <c:valAx>
        <c:axId val="417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0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068-23A3-4F25-8241-70F8D877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595-302E-4672-B1AD-2BA6604B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377-14E4-4C88-A30B-AD81AAFE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78A-A8A0-41DD-9BD9-65D178B7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8AD-7455-4E73-AC84-D388E1D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FCD-06BE-48BB-BF29-88FD804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AC4-04B6-463E-A003-DD70DEC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F2B-057F-4585-A616-EBF3792B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A51-E667-49E4-9DDD-A0C5757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4E2-DBAB-4C46-9EDC-6058839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867-76E3-4DEB-BFD9-2FB863F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3FC-8562-4AC8-A153-FB10907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CCA0-4F55-4798-A7A2-185FA4A12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