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2973388" cy="3657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2B3B25-E6E8-46B2-B750-A17958A774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ED8D0-D7DA-4276-953A-3A661BFB3F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F3F15-36CC-4888-83DE-C599A1A0C4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0530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1956600" y="85356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4904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0530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1956600" y="2114280"/>
            <a:ext cx="8604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3DE361-A932-42D5-8D65-5A0FD28BC72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26"/>
              </a:spcBef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5B0452-34BF-4395-A03C-9F664F3991D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E560A-FEFE-4A59-B758-738CC57629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487B4-2063-4A2F-836C-930F41D1BF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096344-2607-49EE-BCAD-0BCE0904DBC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49040" y="145800"/>
            <a:ext cx="2673000" cy="282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26"/>
              </a:spcBef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5D6201-E244-45D1-A550-01F221B261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945A7-E5A4-4E8F-9F75-12A865C2D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518840" y="211428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8F47C-139F-4E5C-AE26-48AE83E2DA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490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518840" y="853560"/>
            <a:ext cx="130428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49040" y="2114280"/>
            <a:ext cx="2673000" cy="11509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indent="0">
              <a:spcBef>
                <a:spcPts val="326"/>
              </a:spcBef>
              <a:buNone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9E3D0E-D58E-4F36-96DE-7B41B8D21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49040" y="145800"/>
            <a:ext cx="2673000" cy="6094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 algn="ct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49040" y="853560"/>
            <a:ext cx="2673000" cy="241308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t">
            <a:normAutofit/>
          </a:bodyPr>
          <a:p>
            <a:pPr marL="141120" indent="-14112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1" marL="306360" indent="-11736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2" marL="473040" indent="-93600"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3" marL="662040" indent="-93600">
              <a:spcBef>
                <a:spcPts val="326"/>
              </a:spcBef>
              <a:buClr>
                <a:srgbClr val="000000"/>
              </a:buClr>
              <a:buFont typeface="Arial"/>
              <a:buChar char="–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4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5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  <a:p>
            <a:pPr lvl="6" marL="851040" indent="-93960">
              <a:spcBef>
                <a:spcPts val="326"/>
              </a:spcBef>
              <a:buClr>
                <a:srgbClr val="000000"/>
              </a:buClr>
              <a:buFont typeface="Arial"/>
              <a:buChar char="»"/>
              <a:tabLst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13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4940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5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015560" y="3389400"/>
            <a:ext cx="93996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p>
            <a:pPr indent="0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endParaRPr b="0" lang="en-US" sz="7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130480" y="3389400"/>
            <a:ext cx="691920" cy="195120"/>
          </a:xfrm>
          <a:prstGeom prst="rect">
            <a:avLst/>
          </a:prstGeom>
          <a:noFill/>
          <a:ln w="0">
            <a:noFill/>
          </a:ln>
        </p:spPr>
        <p:txBody>
          <a:bodyPr lIns="37800" rIns="37800" tIns="19080" bIns="19080" anchor="ctr">
            <a:noAutofit/>
          </a:bodyPr>
          <a:lstStyle>
            <a:lvl1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  <a:defRPr b="0" lang="en-US" sz="5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fld id="{26B8CB2D-0AAE-4F2A-A6ED-0D41B717BBD9}" type="slidenum">
              <a:rPr b="0" lang="en-US" sz="5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29"/>
          <p:cNvSpPr/>
          <p:nvPr/>
        </p:nvSpPr>
        <p:spPr>
          <a:xfrm>
            <a:off x="343080" y="2895480"/>
            <a:ext cx="2286000" cy="6858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stateless computational kernel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un on each cor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ounded Rectangle 30"/>
          <p:cNvSpPr/>
          <p:nvPr/>
        </p:nvSpPr>
        <p:spPr>
          <a:xfrm>
            <a:off x="114480" y="22096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ra-node (manycore) parallelism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resource management (e.g., ThreadPoo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31"/>
          <p:cNvSpPr/>
          <p:nvPr/>
        </p:nvSpPr>
        <p:spPr>
          <a:xfrm>
            <a:off x="343080" y="15238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node-loc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ounded Rectangle 32"/>
          <p:cNvSpPr/>
          <p:nvPr/>
        </p:nvSpPr>
        <p:spPr>
          <a:xfrm>
            <a:off x="114480" y="838080"/>
            <a:ext cx="2743200" cy="457200"/>
          </a:xfrm>
          <a:prstGeom prst="roundRect">
            <a:avLst>
              <a:gd name="adj" fmla="val 16667"/>
            </a:avLst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Inter-node (distributed) parallelism resource management (e.g., MPI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33"/>
          <p:cNvSpPr/>
          <p:nvPr/>
        </p:nvSpPr>
        <p:spPr>
          <a:xfrm>
            <a:off x="343080" y="152280"/>
            <a:ext cx="2286000" cy="457200"/>
          </a:xfrm>
          <a:prstGeom prst="rect">
            <a:avLst/>
          </a:prstGeom>
          <a:noFill/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Application’s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378000"/>
                <a:tab algn="l" pos="755640"/>
                <a:tab algn="l" pos="1133640"/>
                <a:tab algn="l" pos="1511280"/>
                <a:tab algn="l" pos="1889280"/>
                <a:tab algn="l" pos="2266920"/>
                <a:tab algn="l" pos="2644920"/>
                <a:tab algn="l" pos="3022560"/>
                <a:tab algn="l" pos="3400560"/>
                <a:tab algn="l" pos="3778200"/>
                <a:tab algn="l" pos="4156200"/>
                <a:tab algn="l" pos="4533840"/>
                <a:tab algn="l" pos="4911840"/>
                <a:tab algn="l" pos="5289480"/>
                <a:tab algn="l" pos="5667480"/>
                <a:tab algn="l" pos="6045120"/>
                <a:tab algn="l" pos="6423120"/>
                <a:tab algn="l" pos="6800760"/>
                <a:tab algn="l" pos="7178760"/>
                <a:tab algn="l" pos="7556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global control flow (serial)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6" name="Elbow Connector 34"/>
          <p:cNvCxnSpPr>
            <a:stCxn id="45" idx="2"/>
            <a:endCxn id="44" idx="0"/>
          </p:cNvCxnSpPr>
          <p:nvPr/>
        </p:nvCxnSpPr>
        <p:spPr>
          <a:xfrm rot="16200000">
            <a:off x="1371960" y="7236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7" name="Elbow Connector 8"/>
          <p:cNvCxnSpPr>
            <a:endCxn id="43" idx="0"/>
          </p:cNvCxnSpPr>
          <p:nvPr/>
        </p:nvCxnSpPr>
        <p:spPr>
          <a:xfrm rot="5400000">
            <a:off x="1487520" y="1295640"/>
            <a:ext cx="227160" cy="230040"/>
          </a:xfrm>
          <a:prstGeom prst="bentConnector3">
            <a:avLst>
              <a:gd name="adj1" fmla="val -5714"/>
            </a:avLst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8" name="Elbow Connector 36"/>
          <p:cNvCxnSpPr>
            <a:stCxn id="43" idx="2"/>
            <a:endCxn id="42" idx="0"/>
          </p:cNvCxnSpPr>
          <p:nvPr/>
        </p:nvCxnSpPr>
        <p:spPr>
          <a:xfrm rot="16200000">
            <a:off x="1371960" y="20952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  <p:cxnSp>
        <p:nvCxnSpPr>
          <p:cNvPr id="49" name="Elbow Connector 37"/>
          <p:cNvCxnSpPr>
            <a:stCxn id="42" idx="2"/>
            <a:endCxn id="41" idx="0"/>
          </p:cNvCxnSpPr>
          <p:nvPr/>
        </p:nvCxnSpPr>
        <p:spPr>
          <a:xfrm rot="16200000">
            <a:off x="1371960" y="2781000"/>
            <a:ext cx="228960" cy="360"/>
          </a:xfrm>
          <a:prstGeom prst="bentConnector2">
            <a:avLst/>
          </a:prstGeom>
          <a:ln w="19080">
            <a:solidFill>
              <a:srgbClr val="000000"/>
            </a:solidFill>
            <a:miter/>
            <a:tailEnd len="lg" type="triangle" w="lg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1-18T16:56:00Z</dcterms:created>
  <dc:creator>Harold Carter Edwards</dc:creator>
  <dc:description/>
  <dc:language>en-US</dc:language>
  <cp:lastModifiedBy>Harold Carter Edwards</cp:lastModifiedBy>
  <dcterms:modified xsi:type="dcterms:W3CDTF">2009-11-18T17:36:08Z</dcterms:modified>
  <cp:revision>7</cp:revision>
  <dc:subject/>
  <dc:title>Slide 1</dc:title>
</cp:coreProperties>
</file>