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3657600" cy="20589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9B777D-305E-4AA4-804B-E818973ECD7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5B08BD-A6B2-4919-9375-BFA73D874F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355732-A5F3-4CF4-8629-BCE5A5053F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29564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409120" y="4795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825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29564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409120" y="1188720"/>
            <a:ext cx="105984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10292-6844-4B49-A299-970B8B54284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300"/>
              </a:spcBef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8B5D11-F1A4-478A-A398-FC6922F25C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80EAB-DC56-4066-BDE6-B6B4840A0C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3A87A1-3C45-41C3-82FE-48048EDC96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48F53-139B-4E9A-8BEB-ADD0CD7345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82520" y="82080"/>
            <a:ext cx="3292560" cy="159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300"/>
              </a:spcBef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48F6A3-62D6-41B7-BBA7-48E9CFE927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C5E3C-E3D0-46BF-9C42-2214F01EE7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869840" y="11887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A2319-AA8F-4799-AEC4-E09E20B9F3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8252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869840" y="479520"/>
            <a:ext cx="160668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82520" y="1188720"/>
            <a:ext cx="3292560" cy="6472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/>
          </a:bodyPr>
          <a:p>
            <a:pPr indent="0">
              <a:spcBef>
                <a:spcPts val="300"/>
              </a:spcBef>
              <a:buNone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9A7135-F880-4020-A1BF-10D5C54858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82520" y="82080"/>
            <a:ext cx="3292560" cy="34308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ctr">
            <a:noAutofit/>
          </a:bodyPr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82520" y="479520"/>
            <a:ext cx="3292560" cy="135720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rmAutofit fontScale="87000"/>
          </a:bodyPr>
          <a:p>
            <a:pPr marL="110520" indent="-1105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1" marL="240120" indent="-9216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2" marL="368280" indent="-72720">
              <a:spcBef>
                <a:spcPts val="300"/>
              </a:spcBef>
              <a:buClr>
                <a:srgbClr val="000000"/>
              </a:buClr>
              <a:buFont typeface="Arial"/>
              <a:buChar char="•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3" marL="516240" indent="-72720">
              <a:spcBef>
                <a:spcPts val="300"/>
              </a:spcBef>
              <a:buClr>
                <a:srgbClr val="000000"/>
              </a:buClr>
              <a:buFont typeface="Arial"/>
              <a:buChar char="–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4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5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lvl="6" marL="664200" indent="-73080">
              <a:spcBef>
                <a:spcPts val="300"/>
              </a:spcBef>
              <a:buClr>
                <a:srgbClr val="000000"/>
              </a:buClr>
              <a:buFont typeface="Arial"/>
              <a:buChar char="»"/>
              <a:tabLst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8216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1249200" y="1872720"/>
            <a:ext cx="115920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r>
              <a:rPr b="0" lang="en-US" sz="5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2620440" y="1872720"/>
            <a:ext cx="854280" cy="142920"/>
          </a:xfrm>
          <a:prstGeom prst="rect">
            <a:avLst/>
          </a:prstGeom>
          <a:noFill/>
          <a:ln w="0">
            <a:noFill/>
          </a:ln>
        </p:spPr>
        <p:txBody>
          <a:bodyPr lIns="33840" rIns="33840" tIns="16920" bIns="16920" anchor="t">
            <a:noAutofit/>
          </a:bodyPr>
          <a:lstStyle>
            <a:lvl1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  <a:defRPr b="0" lang="en-US" sz="5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339840"/>
                <a:tab algn="l" pos="679320"/>
                <a:tab algn="l" pos="1019160"/>
                <a:tab algn="l" pos="1359000"/>
                <a:tab algn="l" pos="1698480"/>
                <a:tab algn="l" pos="2038320"/>
                <a:tab algn="l" pos="2378160"/>
                <a:tab algn="l" pos="2717640"/>
                <a:tab algn="l" pos="3057480"/>
                <a:tab algn="l" pos="3397320"/>
                <a:tab algn="l" pos="3736800"/>
                <a:tab algn="l" pos="4076640"/>
                <a:tab algn="l" pos="4416480"/>
                <a:tab algn="l" pos="4756320"/>
                <a:tab algn="l" pos="5095800"/>
                <a:tab algn="l" pos="5435640"/>
                <a:tab algn="l" pos="5775480"/>
                <a:tab algn="l" pos="6114960"/>
                <a:tab algn="l" pos="6454800"/>
                <a:tab algn="l" pos="6794640"/>
              </a:tabLst>
            </a:pPr>
            <a:fld id="{9AE5F15F-BF35-469B-B0DF-CFE35117583A}" type="slidenum">
              <a:rPr b="0" lang="en-US" sz="5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7632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NUL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1413000" y="99072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READ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2666880" y="179064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ACTIV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666880" y="38160"/>
            <a:ext cx="914400" cy="228600"/>
          </a:xfrm>
          <a:prstGeom prst="roundRect">
            <a:avLst>
              <a:gd name="adj" fmla="val 16667"/>
            </a:avLst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BLOCKED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45" name=""/>
          <p:cNvCxnSpPr>
            <a:stCxn id="42" idx="3"/>
            <a:endCxn id="44" idx="2"/>
          </p:cNvCxnSpPr>
          <p:nvPr/>
        </p:nvCxnSpPr>
        <p:spPr>
          <a:xfrm flipV="1">
            <a:off x="2327400" y="266760"/>
            <a:ext cx="7970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6" name=""/>
          <p:cNvCxnSpPr>
            <a:stCxn id="42" idx="1"/>
            <a:endCxn id="41" idx="2"/>
          </p:cNvCxnSpPr>
          <p:nvPr/>
        </p:nvCxnSpPr>
        <p:spPr>
          <a:xfrm rot="10800000">
            <a:off x="533160" y="266760"/>
            <a:ext cx="879840" cy="83844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7" name=""/>
          <p:cNvCxnSpPr>
            <a:stCxn id="41" idx="3"/>
            <a:endCxn id="42" idx="0"/>
          </p:cNvCxnSpPr>
          <p:nvPr/>
        </p:nvCxnSpPr>
        <p:spPr>
          <a:xfrm>
            <a:off x="990720" y="152280"/>
            <a:ext cx="8798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8" name=""/>
          <p:cNvCxnSpPr>
            <a:stCxn id="44" idx="1"/>
            <a:endCxn id="42" idx="0"/>
          </p:cNvCxnSpPr>
          <p:nvPr/>
        </p:nvCxnSpPr>
        <p:spPr>
          <a:xfrm flipV="1" rot="10800000">
            <a:off x="1869840" y="151920"/>
            <a:ext cx="797040" cy="838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49" name=""/>
          <p:cNvCxnSpPr>
            <a:stCxn id="42" idx="3"/>
            <a:endCxn id="43" idx="0"/>
          </p:cNvCxnSpPr>
          <p:nvPr/>
        </p:nvCxnSpPr>
        <p:spPr>
          <a:xfrm>
            <a:off x="2327400" y="1104840"/>
            <a:ext cx="797040" cy="68616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cxnSp>
        <p:nvCxnSpPr>
          <p:cNvPr id="50" name=""/>
          <p:cNvCxnSpPr>
            <a:stCxn id="43" idx="1"/>
            <a:endCxn id="42" idx="2"/>
          </p:cNvCxnSpPr>
          <p:nvPr/>
        </p:nvCxnSpPr>
        <p:spPr>
          <a:xfrm rot="10800000">
            <a:off x="1869840" y="1219320"/>
            <a:ext cx="797040" cy="685800"/>
          </a:xfrm>
          <a:prstGeom prst="curvedConnector2">
            <a:avLst/>
          </a:prstGeom>
          <a:ln w="12600">
            <a:solidFill>
              <a:srgbClr val="5f5f5f"/>
            </a:solidFill>
            <a:miter/>
            <a:tailEnd len="lg" type="arrow" w="lg"/>
          </a:ln>
        </p:spPr>
      </p:cxnSp>
      <p:sp>
        <p:nvSpPr>
          <p:cNvPr id="51" name=""/>
          <p:cNvSpPr/>
          <p:nvPr/>
        </p:nvSpPr>
        <p:spPr>
          <a:xfrm>
            <a:off x="1144800" y="38160"/>
            <a:ext cx="6379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Init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381960" y="571680"/>
            <a:ext cx="91224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Finalize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1754280" y="343080"/>
            <a:ext cx="9471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Un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>
            <a:off x="2668680" y="571680"/>
            <a:ext cx="7920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Block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2405160" y="125748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TPI_Run*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1068480" y="1562040"/>
            <a:ext cx="125064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return fr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Arial"/>
              </a:rPr>
              <a:t>work subprogra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Harold Carter Edwards</cp:lastModifiedBy>
  <dcterms:modified xsi:type="dcterms:W3CDTF">2009-10-19T17:54:54Z</dcterms:modified>
  <cp:revision>4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