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975016"/>
        <c:axId val="19073000"/>
      </c:barChart>
      <c:catAx>
        <c:axId val="689750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73000"/>
        <c:crosses val="autoZero"/>
        <c:auto val="1"/>
        <c:lblAlgn val="ctr"/>
        <c:lblOffset val="100"/>
        <c:noMultiLvlLbl val="0"/>
      </c:catAx>
      <c:valAx>
        <c:axId val="19073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9750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23EC-DCE7-40D5-AA5A-A352AD24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043-55BD-42B6-B74F-8610D21A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ACDF-84F6-43A2-9DF3-F4911DF9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3D1-169D-4BDC-B32C-2A892DB7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EF9E-D63B-484E-8F1E-AA4B31EE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DD43-7CFE-4796-B031-1E7BEF5A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B8D0-FA16-4FDA-9741-16A6A413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F23C-4517-4D78-B18E-45704FC6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19E-B467-4268-B61E-BCBC7CBB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B899-C826-4B01-843B-890D5403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5838-246E-4956-91D1-9A3085B6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6971-F454-40FF-8BB3-7F2006D3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40702-FCF4-44D5-A0E2-910640588E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