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55618"/>
        <c:axId val="10888235"/>
      </c:barChart>
      <c:catAx>
        <c:axId val="81255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88235"/>
        <c:crosses val="autoZero"/>
        <c:auto val="1"/>
        <c:lblAlgn val="ctr"/>
        <c:lblOffset val="100"/>
        <c:noMultiLvlLbl val="0"/>
      </c:catAx>
      <c:valAx>
        <c:axId val="10888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55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62A-5F03-4627-ADC8-A7F2C38A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476-4239-4221-87B6-55019450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5B8-CDF4-4149-ADAB-F9E4B899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4C9-C71F-4C19-AE43-B19089C4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AD7-8B90-421F-A525-FBD48840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27C-04B7-4577-B9F9-912A00FB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946-91B0-4EEB-80A5-F52AEDD8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3B9-49F1-4AF1-B40B-63CF2942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2D4-2C78-4500-9118-35E6E87C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07A-D86A-4F8B-ACA2-592A7152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620-7D99-44CE-A1FB-82B646A2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5D0-4DE1-4EE7-885A-60805318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CA84B-69A9-4754-8204-873A1A0634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