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844503"/>
        <c:axId val="68231946"/>
      </c:barChart>
      <c:catAx>
        <c:axId val="948445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31946"/>
        <c:crosses val="autoZero"/>
        <c:auto val="1"/>
        <c:lblAlgn val="ctr"/>
        <c:lblOffset val="100"/>
        <c:noMultiLvlLbl val="0"/>
      </c:catAx>
      <c:valAx>
        <c:axId val="682319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445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411D-1DE2-4AFC-B0B5-4777B0F4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F9E9-762E-4AD2-BF81-E8EE0D5F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A853-E855-4CAB-A35F-9EBDD746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057E-96AF-46B0-BF56-A36A1104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8D58-E2D5-4169-B36B-118F37BC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8FC-0E6E-4418-8176-F2017F1F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677D-36AB-4F13-8C59-96A32199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BE7B-2F79-4E6C-8B01-FC292306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0CF-7ACD-4F2C-86E9-E6D0EE58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2B46-74D3-40E1-A52E-2B770F95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B137-C946-4809-B7E1-9FFE5619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6268-34D1-42F9-8D9F-E233C3CC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79776-7671-4131-9E02-6859F4DFD7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