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58338"/>
        <c:axId val="26343443"/>
      </c:barChart>
      <c:catAx>
        <c:axId val="71358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43443"/>
        <c:crosses val="autoZero"/>
        <c:auto val="1"/>
        <c:lblAlgn val="ctr"/>
        <c:lblOffset val="100"/>
        <c:noMultiLvlLbl val="0"/>
      </c:catAx>
      <c:valAx>
        <c:axId val="26343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58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E99-62A1-4C8B-BE1C-04DE6970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CCC-6809-4B4C-BF6C-C7A7347A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136-DCD0-477C-B1D1-077475B3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9DB-5147-4229-85A2-3C92171D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C69-1A09-4DB8-A01E-E4CC9EDF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6C7-8B6F-4A20-8B41-FB4BE423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727-CE7D-40C3-854D-4DF4226A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280-F9B2-41E3-B8EE-CA4BFEE4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27C-670D-46CB-8EA6-7BC3AD80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840-EB21-45BA-BB56-17E6409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959-B54B-40F4-9B5F-C7B7315E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6A6-3EAD-4888-9529-E1DD9CC2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E1342-465D-4B48-9404-5C7AB0BF23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