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106512"/>
        <c:axId val="47191790"/>
      </c:barChart>
      <c:catAx>
        <c:axId val="631065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91790"/>
        <c:crosses val="autoZero"/>
        <c:auto val="1"/>
        <c:lblAlgn val="ctr"/>
        <c:lblOffset val="100"/>
        <c:noMultiLvlLbl val="0"/>
      </c:catAx>
      <c:valAx>
        <c:axId val="471917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065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8125-B627-4D8B-94D3-14E0286C0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6A1F-A783-48CC-8355-5F134D19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93CB-6806-4F13-BFF8-A0B26188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DEC0-FF04-44CA-859E-867E7BB21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58A1-75D7-4712-B224-68EAB845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8DEF-AC88-4C2B-A53A-1E940225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62BC-1FBD-4298-8366-187F1F2C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5F05-7430-443E-B9B9-86E2590C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5FAD-D904-472D-9D8F-B05E50E1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FA7F-F7C8-4119-AD11-2B4C30E5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CD58-612A-4A09-B8DC-47FFE490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080D-E0E8-4FCF-9729-876EF52A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16E95-0916-48B6-97DD-365E494B9A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