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5936"/>
        <c:axId val="64585661"/>
      </c:barChart>
      <c:catAx>
        <c:axId val="9055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85661"/>
        <c:crosses val="autoZero"/>
        <c:auto val="1"/>
        <c:lblAlgn val="ctr"/>
        <c:lblOffset val="100"/>
        <c:noMultiLvlLbl val="0"/>
      </c:catAx>
      <c:valAx>
        <c:axId val="64585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5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02F-ECD9-4FB2-85C8-EEA40277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911-3D68-4224-9156-675F715F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62E-4FE1-4184-91E1-3A626B96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8B7-5A6E-4EE4-9588-D9753B8C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3D3-869C-44C0-8ECF-8C58E171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432-1A95-4153-A13C-1FA5D5B8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484-4526-42A0-8D3C-60415CE1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16B-14B3-4F8B-9F26-DB439C4E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8D1-1848-4103-96F0-E106B524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4AA-5EDA-4EBE-9BF9-D7A8A01A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AFF-BD51-4475-9501-4E9B5C2F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475-81E2-4CC7-9241-CCD37E2B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DB232-0F37-43FD-AA20-F7151FAB13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