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56635"/>
        <c:axId val="78021504"/>
      </c:barChart>
      <c:catAx>
        <c:axId val="52756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21504"/>
        <c:crosses val="autoZero"/>
        <c:auto val="1"/>
        <c:lblAlgn val="ctr"/>
        <c:lblOffset val="100"/>
        <c:noMultiLvlLbl val="0"/>
      </c:catAx>
      <c:valAx>
        <c:axId val="78021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6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FDF-9527-4E5B-8DA2-9958DB45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349-73ED-4354-9B47-D603511C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621-146D-4306-82F4-1F42BA8E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59F-9D69-46CF-8FA6-133BFB99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D01-6BC4-47A5-8B7D-7A8E4579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F45-123C-42A0-A637-E8156A0F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95E-74EE-47F5-BEFC-460C39A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90C-74BE-4E7B-BCD0-F0F393D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D0F-CD5D-4FE0-A1BD-6D64124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8AE-B78A-4750-8C65-7664C9D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497-4756-463A-BFCD-2D235F4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B60-23E4-4F31-A9BC-0B521C6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575CB-91A1-4D7F-9FDC-D0130F689A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