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81178"/>
        <c:axId val="40613117"/>
      </c:barChart>
      <c:catAx>
        <c:axId val="20881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13117"/>
        <c:crosses val="autoZero"/>
        <c:auto val="1"/>
        <c:lblAlgn val="ctr"/>
        <c:lblOffset val="100"/>
        <c:noMultiLvlLbl val="0"/>
      </c:catAx>
      <c:valAx>
        <c:axId val="40613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81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B3B-FE9D-4098-BBB4-F4CD620F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D4B-3ECF-437B-B16B-158B4128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619-1C0E-4C49-9645-B2B18638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265-DB0A-40C0-911E-2AB7B954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068-D131-43E6-84FB-919CFD3F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139-F364-4E2D-BA42-D2996CD7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2D1-980E-4CBE-8DF3-CEB73A34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2EB-15F0-46FB-BA82-59BF3327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58F-EABE-4059-9C5A-3E3C6C10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CBB-8FED-4011-87C6-DA53D920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B3D-18CC-4788-A3D5-4207DACA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E9A-35CA-4D06-A37E-1F45F3BA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0220E-9E17-448E-AB2A-86EBB20822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