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41532"/>
        <c:axId val="45961894"/>
      </c:barChart>
      <c:catAx>
        <c:axId val="28741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61894"/>
        <c:crosses val="autoZero"/>
        <c:auto val="1"/>
        <c:lblAlgn val="ctr"/>
        <c:lblOffset val="100"/>
        <c:noMultiLvlLbl val="0"/>
      </c:catAx>
      <c:valAx>
        <c:axId val="45961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41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D55-B813-42E2-B24D-DE8AD2E7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8C6-8326-4AAB-87EC-2E194B2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EC4-BE4C-4455-9AE8-42F0BB4B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F33-E766-455D-843E-C0C51DAC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EA6-AC60-4458-8CC1-8175B24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F91-EB83-4349-B0EE-D0057C4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33F-FD5D-4269-9140-1DC85DEA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013-0EDA-4B09-97EE-F082945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764-6A01-42F7-89D8-AD804024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980-BD0C-4272-B5A8-27773E1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4CD-012C-438B-AE03-71CB7B2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EB7-3725-49DA-84F2-5C63DBC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7CC5A-47C7-4111-B5E6-03423AF40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