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42102"/>
        <c:axId val="15343639"/>
      </c:barChart>
      <c:catAx>
        <c:axId val="23042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43639"/>
        <c:crosses val="autoZero"/>
        <c:auto val="1"/>
        <c:lblAlgn val="ctr"/>
        <c:lblOffset val="100"/>
        <c:noMultiLvlLbl val="0"/>
      </c:catAx>
      <c:valAx>
        <c:axId val="15343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2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57E-D7AA-4FC1-A5A2-7C06FF45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C5F-7F4D-4E84-9C7C-E04C97C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625-AED5-4E8D-BD20-B4CBAF36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90F-536F-473A-A77F-C1F56762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D1F-DA42-42E6-ADE5-82FA164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E38-7759-41B8-957A-017C475B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FF8-A039-4AE6-B289-0EDD381C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053-3E7B-4ECA-9DDD-C5802685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EC0-F523-4862-9DC5-9CF4BA34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E60-9654-4821-94D8-1E00D46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1E8-915C-4F0D-8206-5F943599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1B4-CAEC-4EA6-9166-45F076D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4B0DE-D644-46E1-9001-5B8E778C1B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