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61597"/>
        <c:axId val="75415451"/>
      </c:barChart>
      <c:catAx>
        <c:axId val="45061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5451"/>
        <c:crosses val="autoZero"/>
        <c:auto val="1"/>
        <c:lblAlgn val="ctr"/>
        <c:lblOffset val="100"/>
        <c:noMultiLvlLbl val="0"/>
      </c:catAx>
      <c:valAx>
        <c:axId val="75415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1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880-5A74-40D9-A11D-E8ECCECD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678-708C-4F96-A139-062605F6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241-4D69-442E-97B6-3DB3C9F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9BB-D15A-4196-A9E9-967857E9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40D-AEE3-4744-A557-37382E8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199-EFD7-45EA-9351-6D463A0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4B8-6C1F-47CC-A798-F93C2047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0A4-7D8B-4830-9DD6-7470662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F7D-4D33-4B2E-AD82-977DBF3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289-F72C-49A9-A490-5A7F307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CE-378E-409C-9EB2-C8C380C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1B0-2B6F-4D95-AAED-AE6719AB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A6F83-CEC2-4083-BC2F-776995E79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