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1942"/>
        <c:axId val="63279178"/>
      </c:barChart>
      <c:catAx>
        <c:axId val="6741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79178"/>
        <c:crosses val="autoZero"/>
        <c:auto val="1"/>
        <c:lblAlgn val="ctr"/>
        <c:lblOffset val="100"/>
        <c:noMultiLvlLbl val="0"/>
      </c:catAx>
      <c:valAx>
        <c:axId val="63279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858-C87B-41FA-B355-BE652D7F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15E-6C79-46F2-AC6B-87CFA93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AE2-FF51-4E2E-A6AE-59BDA6D0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C95-A870-45ED-9760-ECBAD9B1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B6D-9A62-4746-A5CE-B4C3E03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D5E-FEDD-4513-ADA7-6E9E7B6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328-EB05-46D4-9992-BB030EA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473-306F-4FDE-83ED-741D3C67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211-F9D7-4C48-89C1-BD3F833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166-FE16-4D23-8A63-7E6F58E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ED5-1AA1-4B34-B462-E1BBF5DB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70D-C1D5-4F57-9159-A211BB29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808B9-9EB2-4791-9FA1-61BCDAEEF5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