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749077"/>
        <c:axId val="27040658"/>
      </c:barChart>
      <c:catAx>
        <c:axId val="877490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040658"/>
        <c:crosses val="autoZero"/>
        <c:auto val="1"/>
        <c:lblAlgn val="ctr"/>
        <c:lblOffset val="100"/>
        <c:noMultiLvlLbl val="0"/>
      </c:catAx>
      <c:valAx>
        <c:axId val="270406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7490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FF9C-A87D-4D0C-94CA-7BB7BB2B0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E93B-712F-483A-B551-A67361971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007A-B8DA-40AF-825C-B6757E470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6842-4CD4-4C8E-BBCD-1B052057B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18CB-EC42-4BD3-A077-F2661D6B7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55A8-55AA-44B3-89A2-445F9D15D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1E58-0766-448E-B152-6435F07BF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5A46-8891-4618-9609-E6A6776A4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5A68-975C-4B1D-9CFA-68E7E9C3D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6C86-23CB-410C-A5E6-A21BE338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9E03-CC67-4DD6-8025-F65B0CA4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E62C-6484-4BF1-891A-73E81011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1ED053-ABEE-41CC-AEBA-15D29A4C96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