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335"/>
        <c:axId val="38589961"/>
      </c:barChart>
      <c:catAx>
        <c:axId val="1299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89961"/>
        <c:crosses val="autoZero"/>
        <c:auto val="1"/>
        <c:lblAlgn val="ctr"/>
        <c:lblOffset val="100"/>
        <c:noMultiLvlLbl val="0"/>
      </c:catAx>
      <c:valAx>
        <c:axId val="38589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05A-4AA9-4BF0-A825-C2F5FBED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8DD-0ADB-4893-8047-48B5A47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786-B0A5-4A8C-BBF4-D00890CF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2E0-C627-4E54-8630-1265ADEC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120-D999-41B7-88C4-D6DD4AC9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B31-0C01-4E88-93A7-C6D08B4F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4A1-C853-4F79-8135-51264AD3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E69-2744-4385-88AB-9716AD8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9D1-3078-4B5E-B815-0504B850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0A9-EF37-43F7-AE63-C3937F6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B6D-7FBF-457A-A572-2D7F16B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987-2764-4CC5-8CFD-9FAD846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69B86-9B63-43DF-AD0D-C21E8068B3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