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26361"/>
        <c:axId val="67789741"/>
      </c:barChart>
      <c:catAx>
        <c:axId val="61226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89741"/>
        <c:crosses val="autoZero"/>
        <c:auto val="1"/>
        <c:lblAlgn val="ctr"/>
        <c:lblOffset val="100"/>
        <c:noMultiLvlLbl val="0"/>
      </c:catAx>
      <c:valAx>
        <c:axId val="67789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26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5B8-7577-4252-B485-2F59AA69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6D5-8F0D-48D8-BFF1-98B92AE2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7E0-1A92-423A-852F-D4179DC1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3AF-3C06-426C-8F5C-94DF7324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394-3862-427E-A591-1EE53E28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297-D97F-43BD-9148-50EB2BC2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06C-B5E0-439B-856C-D47A2B13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1D8-E6B1-44DA-81FE-FC9F3134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606-8A9F-4007-8B83-23055789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486-8EF2-4D44-A29B-98C0C2F2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D83-7E61-4BB9-AAD2-A028D14E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F78-B53E-45FD-A6E5-26BE9575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7A0A1-27F6-4211-A72E-44026AC04A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